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ct" ContentType="image/x-pict"/>
  <Override PartName="/ppt/media/image3.pct" ContentType="image/x-pict"/>
  <Override PartName="/ppt/media/image4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D7BE-47F6-43C7-B978-3604EDD35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346D-BC51-4321-A901-21B16BE8C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3E7A-E38A-4410-B9AD-A11608A78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6592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7428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6592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7428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C5E9-D85C-46B5-8EFA-489E333DA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BD35B-576E-47EB-B2AD-5E94A1289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95C06-1DE8-4D02-9E1F-133644517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B135F-205E-45B7-833E-63EEE0371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EA262-EC99-4E69-B7C8-3FA6C9D05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57A50-A065-45A0-A347-3CDFD35A4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36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A59DF-1059-4965-88E1-485F8C7B2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04896-B1C5-4EDE-9280-B51EE5DE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E294-82E4-4761-ABAA-2A33ACD48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8D0E9-7576-44E2-9FA9-2479F7B8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9550D-CC36-43FA-B6C4-59515349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C1581-BCD1-44FB-8A91-BC3E6A2D9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BC78E-23A4-4667-9AD2-81EFCB74D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6592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7428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6592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7428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6BC44-FBBB-40BB-83C8-A296F3577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C0AC-C7CB-45AB-89B6-4FF52FB66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AD6E-EDF5-4CBC-9641-C1A36563E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C6B6-E5EE-4375-A95B-4B907025B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6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A387-6F91-4B13-9375-49377D62F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FB65-F1D6-4B18-8A90-F07BD9E9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A803-29EA-4083-B742-9470092C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8D97-E3B9-4401-B46F-4E5E0200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304920"/>
            <a:ext cx="8305920" cy="1295280"/>
            <a:chOff x="457200" y="304920"/>
            <a:chExt cx="8305920" cy="1295280"/>
          </a:xfrm>
        </p:grpSpPr>
        <p:sp>
          <p:nvSpPr>
            <p:cNvPr id="1" name=""/>
            <p:cNvSpPr/>
            <p:nvPr/>
          </p:nvSpPr>
          <p:spPr>
            <a:xfrm>
              <a:off x="457200" y="304920"/>
              <a:ext cx="8305920" cy="12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87f2"/>
                </a:gs>
                <a:gs pos="100000">
                  <a:srgbClr val="243560"/>
                </a:gs>
              </a:gsLst>
              <a:lin ang="5400000"/>
            </a:gradFill>
            <a:ln w="0">
              <a:noFill/>
            </a:ln>
            <a:effectLst>
              <a:outerShdw dist="115171" dir="502314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01480" y="3430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93e6f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3960" y="388800"/>
              <a:ext cx="7772400" cy="19692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8aa9f4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14240" y="542880"/>
              <a:ext cx="7782120" cy="155520"/>
            </a:xfrm>
            <a:custGeom>
              <a:avLst/>
              <a:gdLst/>
              <a:ahLst/>
              <a:rect l="l" t="t" r="r" b="b"/>
              <a:pathLst>
                <a:path w="4902" h="98">
                  <a:moveTo>
                    <a:pt x="6" y="0"/>
                  </a:moveTo>
                  <a:cubicBezTo>
                    <a:pt x="0" y="72"/>
                    <a:pt x="45" y="97"/>
                    <a:pt x="136" y="98"/>
                  </a:cubicBezTo>
                  <a:lnTo>
                    <a:pt x="4770" y="84"/>
                  </a:lnTo>
                  <a:cubicBezTo>
                    <a:pt x="4857" y="80"/>
                    <a:pt x="4897" y="65"/>
                    <a:pt x="4902" y="6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54f8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>
              <a:off x="647640" y="1066320"/>
              <a:ext cx="7920000" cy="45720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779b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259056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477120" y="632448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3A58B-106F-4596-8F2A-B87765763CD0}" type="slidenum">
              <a:rPr b="0" lang="en-US" sz="1400" spc="-1" strike="noStrike">
                <a:solidFill>
                  <a:srgbClr val="5b87f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2133720" y="624852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61B0B-AECA-495E-892D-3D923F28BD7C}" type="slidenum">
              <a:rPr b="0" lang="en-US" sz="1400" spc="-1" strike="noStrike">
                <a:solidFill>
                  <a:srgbClr val="5b87f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457200" y="2362320"/>
            <a:ext cx="8305920" cy="1295280"/>
            <a:chOff x="457200" y="2362320"/>
            <a:chExt cx="8305920" cy="1295280"/>
          </a:xfrm>
        </p:grpSpPr>
        <p:sp>
          <p:nvSpPr>
            <p:cNvPr id="51" name=""/>
            <p:cNvSpPr/>
            <p:nvPr/>
          </p:nvSpPr>
          <p:spPr>
            <a:xfrm>
              <a:off x="457200" y="2362320"/>
              <a:ext cx="8305920" cy="12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87f2"/>
                </a:gs>
                <a:gs pos="100000">
                  <a:srgbClr val="243560"/>
                </a:gs>
              </a:gsLst>
              <a:lin ang="5400000"/>
            </a:gradFill>
            <a:ln w="0">
              <a:noFill/>
            </a:ln>
            <a:effectLst>
              <a:outerShdw dist="115171" dir="502314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01480" y="24004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93e6f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23960" y="2446200"/>
              <a:ext cx="7772400" cy="19692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8aa9f4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14240" y="2600280"/>
              <a:ext cx="7782120" cy="155520"/>
            </a:xfrm>
            <a:custGeom>
              <a:avLst/>
              <a:gdLst/>
              <a:ahLst/>
              <a:rect l="l" t="t" r="r" b="b"/>
              <a:pathLst>
                <a:path w="4902" h="98">
                  <a:moveTo>
                    <a:pt x="6" y="0"/>
                  </a:moveTo>
                  <a:cubicBezTo>
                    <a:pt x="0" y="72"/>
                    <a:pt x="45" y="97"/>
                    <a:pt x="136" y="98"/>
                  </a:cubicBezTo>
                  <a:lnTo>
                    <a:pt x="4770" y="84"/>
                  </a:lnTo>
                  <a:cubicBezTo>
                    <a:pt x="4857" y="80"/>
                    <a:pt x="4897" y="65"/>
                    <a:pt x="4902" y="6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54f8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647640" y="3123720"/>
              <a:ext cx="7920000" cy="45720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779b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bad41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bad41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ct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lo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ing U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slope of the line through the points (-5, 5) and (7, -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sing the slope and a point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graph a line.  Use the point as your starting point and count the slo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If your slope is a whole number, think of it as a fraction by putting it over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 the line through the poi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3, 2) that has a slope of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(3, 2) as your starting point and think of your slope as 4 over 1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 the line with slope of 2/3 that goes through the point (4, 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 the line that goes through the point    (-2, 5) and has a slope of 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pe is the measure of steepness of a 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two points with coordina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       ) and (         ) on a line, the slope of the line is given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066680" y="3048120"/>
          <a:ext cx="1001880" cy="534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3048120"/>
                    <a:ext cx="10018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3276720" y="3048120"/>
          <a:ext cx="1028520" cy="549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76720" y="3048120"/>
                    <a:ext cx="1028520" cy="54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2286000" y="4952880"/>
          <a:ext cx="3594240" cy="1343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86000" y="4952880"/>
                    <a:ext cx="3594240" cy="13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pe of a horizontal line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pe of a vertical line --- undefin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op of your fraction is the “rise” par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number is positive --go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number is negative -- go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ottom of your fraction is the “run” p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r number is positive -- go 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r number is negative -- go l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el your points before plugging into the formu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slope of the line through the points (8, -4) and (-2, -3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slope of the line through the points (0, 0) and (7, -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slope of the line through the points (11, 1) and (-12, -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18:37:19Z</dcterms:created>
  <dc:creator>Parkland School District</dc:creator>
  <dc:description/>
  <dc:language>en-US</dc:language>
  <cp:lastModifiedBy>Parkland High School</cp:lastModifiedBy>
  <dcterms:modified xsi:type="dcterms:W3CDTF">2010-12-02T16:07:17Z</dcterms:modified>
  <cp:revision>5</cp:revision>
  <dc:subject/>
  <dc:title>Slope</dc:title>
</cp:coreProperties>
</file>